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04319-0D94-4207-ACBD-BFF45E3BB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DB9C3-B03A-4C22-A83C-447867E2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67E8D-F8F4-4390-BBAD-A3ABFFA64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6D6AA-B956-49B4-9A3E-F39361D2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C92B3-3C43-4909-A657-03A3CC748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13FC5-892E-4829-8A45-9D967ABEC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478D3-0234-4764-B673-08CF4DF5C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61A08-3C59-4771-87FD-EC1C8D51D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2AECA-6065-4B8A-9808-54738D261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0D12B-C792-49FE-BA01-D0B0540DA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C4E92-0665-4342-B0EA-0A7CB394C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D2902-1312-4F34-B0FB-BF59A9EF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9544-B1AF-459D-B55A-910587B78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2E8E1-5860-4E97-B440-A01821497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B2C00-4795-4878-861C-3663C47D7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FAC9D-5179-446B-B084-7D8A286FB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A6685-3621-44AF-869C-B6F951606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0C052A-E676-4DBF-B5F9-A4A8392D8A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45711-A10B-4640-8FEA-0E73375C9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7A520-B06B-4B4F-9D31-87B5FDB6F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4D3A30-6B64-4635-AD3C-956DF9C80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9DC50-64C1-48B0-8F2E-FCE4A1041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07FBB-1948-46EB-A9D4-6DAC2E77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B6585-54C2-4D8B-B846-5158CA4C0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BC801-9CFA-4DCC-9F67-B6F6ABAA7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2FB5F-87AA-4880-B692-0F4E0E2EA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2A185-B942-4E7C-BF75-62586909C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63C0F-B714-4FA3-9B43-A2C7CC4EC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1EEB6-5305-4823-A032-96BEEF9AF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EFF0A-8244-4255-8BBD-1CE535B50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47FDE8-6B66-42EC-9823-10609D935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971085-EC7B-4D65-B410-EFC72B787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98ECA-922E-4F7E-B64D-236BE5E14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F53D2-8ABF-4E61-95EA-05F0AD71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22229-C234-4EBD-A657-A64E0CE3F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CACA1-54ED-4A02-8998-4E1E5BEF5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5DC08-6833-438C-9E63-4664756F3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81117-B47D-4A5B-ADC7-8DC2EE411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CDD1E-CEDB-404B-8498-5C3B3FFC6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68D47-6BA8-4A5F-BAC1-477F91C63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B9436-F7CA-4F25-9101-D82A0A005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222D30-DEB2-47F0-AD46-9EC0795389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058F6-AA74-495E-ADDA-846543063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7228-39BD-4A40-AB66-79B3E461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5B1D-FE11-4E20-B625-DB1573C1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B857-74A6-45A5-93DF-E6C82BB0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23CC-B6B7-4745-8727-F36DE5CD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4374-07C4-4661-8178-21A5C0BED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61C0-DBD8-4A9D-9BB5-DF63896AD258}"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uppieren 1"/>
          <p:cNvGrpSpPr/>
          <p:nvPr/>
        </p:nvGrpSpPr>
        <p:grpSpPr>
          <a:xfrm>
            <a:off x="-19080" y="203040"/>
            <a:ext cx="9181080" cy="648000"/>
            <a:chOff x="-19080" y="203040"/>
            <a:chExt cx="9181080" cy="648000"/>
          </a:xfrm>
        </p:grpSpPr>
        <p:grpSp>
          <p:nvGrpSpPr>
            <p:cNvPr id="8" name="Freihandform 11"/>
            <p:cNvGrpSpPr/>
            <p:nvPr/>
          </p:nvGrpSpPr>
          <p:grpSpPr>
            <a:xfrm>
              <a:off x="-19080" y="203040"/>
              <a:ext cx="9162720" cy="648000"/>
              <a:chOff x="-19080" y="203040"/>
              <a:chExt cx="9162720" cy="648000"/>
            </a:xfrm>
          </p:grpSpPr>
          <p:pic>
            <p:nvPicPr>
              <p:cNvPr id="9" name="Freihand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ihandform 12"/>
            <p:cNvGrpSpPr/>
            <p:nvPr/>
          </p:nvGrpSpPr>
          <p:grpSpPr>
            <a:xfrm>
              <a:off x="-19080" y="248040"/>
              <a:ext cx="9181080" cy="565200"/>
              <a:chOff x="-19080" y="248040"/>
              <a:chExt cx="9181080" cy="565200"/>
            </a:xfrm>
          </p:grpSpPr>
          <p:pic>
            <p:nvPicPr>
              <p:cNvPr id="12" name="Freihand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ieren 1"/>
          <p:cNvGrpSpPr/>
          <p:nvPr/>
        </p:nvGrpSpPr>
        <p:grpSpPr>
          <a:xfrm>
            <a:off x="-19080" y="203040"/>
            <a:ext cx="9181080" cy="648000"/>
            <a:chOff x="-19080" y="203040"/>
            <a:chExt cx="9181080" cy="648000"/>
          </a:xfrm>
        </p:grpSpPr>
        <p:grpSp>
          <p:nvGrpSpPr>
            <p:cNvPr id="53" name="Freihandform 11"/>
            <p:cNvGrpSpPr/>
            <p:nvPr/>
          </p:nvGrpSpPr>
          <p:grpSpPr>
            <a:xfrm>
              <a:off x="-19080" y="203040"/>
              <a:ext cx="9162720" cy="648000"/>
              <a:chOff x="-19080" y="203040"/>
              <a:chExt cx="9162720" cy="648000"/>
            </a:xfrm>
          </p:grpSpPr>
          <p:pic>
            <p:nvPicPr>
              <p:cNvPr id="54" name="Freihand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ihandform 12"/>
            <p:cNvGrpSpPr/>
            <p:nvPr/>
          </p:nvGrpSpPr>
          <p:grpSpPr>
            <a:xfrm>
              <a:off x="-19080" y="248040"/>
              <a:ext cx="9181080" cy="565200"/>
              <a:chOff x="-19080" y="248040"/>
              <a:chExt cx="9181080" cy="565200"/>
            </a:xfrm>
          </p:grpSpPr>
          <p:pic>
            <p:nvPicPr>
              <p:cNvPr id="57" name="Freihand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3156-2C64-46F7-A161-7C1C07998E9E}"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ieren 1"/>
          <p:cNvGrpSpPr/>
          <p:nvPr/>
        </p:nvGrpSpPr>
        <p:grpSpPr>
          <a:xfrm>
            <a:off x="-19080" y="203040"/>
            <a:ext cx="9181080" cy="648000"/>
            <a:chOff x="-19080" y="203040"/>
            <a:chExt cx="9181080" cy="648000"/>
          </a:xfrm>
        </p:grpSpPr>
        <p:grpSp>
          <p:nvGrpSpPr>
            <p:cNvPr id="103" name="Freihandform 11"/>
            <p:cNvGrpSpPr/>
            <p:nvPr/>
          </p:nvGrpSpPr>
          <p:grpSpPr>
            <a:xfrm>
              <a:off x="-19080" y="203040"/>
              <a:ext cx="9162720" cy="648000"/>
              <a:chOff x="-19080" y="203040"/>
              <a:chExt cx="9162720" cy="648000"/>
            </a:xfrm>
          </p:grpSpPr>
          <p:pic>
            <p:nvPicPr>
              <p:cNvPr id="104" name="Freihand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ihandform 12"/>
            <p:cNvGrpSpPr/>
            <p:nvPr/>
          </p:nvGrpSpPr>
          <p:grpSpPr>
            <a:xfrm>
              <a:off x="-19080" y="248040"/>
              <a:ext cx="9181080" cy="565200"/>
              <a:chOff x="-19080" y="248040"/>
              <a:chExt cx="9181080" cy="565200"/>
            </a:xfrm>
          </p:grpSpPr>
          <p:pic>
            <p:nvPicPr>
              <p:cNvPr id="107" name="Freihand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5038-F3C8-458D-AEEE-FABB501575F9}"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Eine Ecke des Rechtecks schneiden und abrunde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echtwinkliges Dreiec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ihand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ihand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DC02-5C9F-4889-8BCE-560BBDF1F855}"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feld 3"/>
          <p:cNvSpPr/>
          <p:nvPr/>
        </p:nvSpPr>
        <p:spPr>
          <a:xfrm>
            <a:off x="1571760" y="642960"/>
            <a:ext cx="6286320" cy="649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nstantia"/>
              </a:rPr>
              <a:t>Analysieren sie die Quelle M15 auf S.187, indem Sie die Haupttendenzen der Entwicklung der Wahlergebnisse herausarbeiten und im Anschluss der Frage nachgehen, welche historischen Erkenntnisse wir aus diesen Haupttendenzen über den Zustand der Weimarer Republik ziehen könne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Diagramm 1" descr=""/>
          <p:cNvPicPr/>
          <p:nvPr/>
        </p:nvPicPr>
        <p:blipFill>
          <a:blip r:embed="rId1"/>
          <a:stretch/>
        </p:blipFill>
        <p:spPr>
          <a:xfrm>
            <a:off x="81000" y="1071720"/>
            <a:ext cx="8982000" cy="57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500" spc="-1" strike="noStrike">
                <a:solidFill>
                  <a:srgbClr val="04617b"/>
                </a:solidFill>
                <a:latin typeface="Calibri"/>
              </a:rPr>
              <a:t>Haupttendenzen der Entwicklung</a:t>
            </a: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19: SPD stärkste Partei vor Zentrum und DDP, bilden zusammen die „Weimarer Koal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20: SPD und DDP haben starke Verlus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4: Erstarken der rechten Parteien (NSDAP/DNVP) und der KP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ez 1924: Verluste der extremistischen Partei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8-1933: Nur NSDAP kann großen Stimmenzuwachs erzielen, andere Parteien mit Verlust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04617b"/>
                </a:solidFill>
                <a:latin typeface="Calibri"/>
              </a:rPr>
              <a:t>Folgerunge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Weimarer Republik als „Parteiensta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Keine Partei mit absoluter Mehrheit im Reichstag </a:t>
            </a:r>
            <a:r>
              <a:rPr b="0" lang="de-DE" sz="2600" spc="-1" strike="noStrike">
                <a:solidFill>
                  <a:srgbClr val="000000"/>
                </a:solidFill>
                <a:latin typeface="Wingdings"/>
                <a:ea typeface="Wingdings"/>
              </a:rPr>
              <a:t></a:t>
            </a:r>
            <a:r>
              <a:rPr b="0" lang="de-DE" sz="2600" spc="-1" strike="noStrike">
                <a:solidFill>
                  <a:srgbClr val="000000"/>
                </a:solidFill>
                <a:latin typeface="Constantia"/>
              </a:rPr>
              <a:t> Kooperation, Absprachen und Koalitionen unerlässlich </a:t>
            </a:r>
            <a:r>
              <a:rPr b="0" lang="de-DE" sz="2600" spc="-1" strike="noStrike">
                <a:solidFill>
                  <a:srgbClr val="000000"/>
                </a:solidFill>
                <a:latin typeface="Wingdings"/>
                <a:ea typeface="Wingdings"/>
              </a:rPr>
              <a:t></a:t>
            </a:r>
            <a:r>
              <a:rPr b="0" lang="de-DE" sz="2600" spc="-1" strike="noStrike">
                <a:solidFill>
                  <a:srgbClr val="000000"/>
                </a:solidFill>
                <a:latin typeface="Constantia"/>
              </a:rPr>
              <a:t> wegen programmatischer Unvereinbarkeiten sozio-kulturell verbundener Parteien Milieu-übergreifende Koalitionen notwendi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Nach 1919: Verschiebung der politischen Kräfteverhältnisse  nach rech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1:18:26Z</dcterms:created>
  <dc:creator>Lukas</dc:creator>
  <dc:description/>
  <dc:language>en-US</dc:language>
  <cp:lastModifiedBy>Lukas</cp:lastModifiedBy>
  <dcterms:modified xsi:type="dcterms:W3CDTF">2009-02-27T14:44:04Z</dcterms:modified>
  <cp:revision>21</cp:revision>
  <dc:subject/>
  <dc:title>Folie 1</dc:title>
</cp:coreProperties>
</file>